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6E70-3892-47F2-85C8-7420227D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F95-9BF2-4E73-AAD1-B57845A1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98FE4-EBBD-499F-B122-C297C742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C709F-2455-409F-A0D7-A5790DAA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77A15-085B-46BB-8897-B34B78BC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B1EAA-EBE4-41A5-AD66-1D171290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86179-A187-418E-AE38-2BBB07CE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E4782-55EB-471C-8114-D13BA650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77FDF-0C4D-4B44-B26C-4CD5310D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A00BF-DD66-4D6E-8994-A410D743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1D8A8-E6E4-49A5-9917-7084C9E9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007E6-4E62-4E7C-BB71-024C3B2C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95B-6DA1-45A9-9A3F-5687934A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F55D4-886B-46B7-96D1-2195ED58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77D82-4200-4675-B63B-249E59DE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F34E9-46FA-4B35-A291-D1573635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DC565-9A36-4E1D-B282-C451769B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733C6-3B3B-4F30-A41E-ED4F7B4C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0D1F5-BF0E-4FAC-9EB3-C0698747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86BA5-5E68-4D21-9D8B-87631FC4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E40DD-EF0B-4A23-9079-7F9F698B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AA6B4-50C3-4249-9329-01BB88F1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8208A-58E8-4ADC-8A0F-7E9DD39D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91C-20E4-445D-B3BB-F47FA5B5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08265-9EC2-4784-8C9C-EDAE7786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1ED5A-23CF-40CC-BA96-F0E05AB4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9CD86-AE71-4622-AA39-5FFD0437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E7330-25B4-4DAE-B271-4F98F138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AF440-F44C-4061-810A-1CA562CD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14910-38C2-41C3-859C-9AD18E6B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908D0-67A2-441D-9654-5272DBB6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BD9F3-31E8-4817-A4A0-4B0C64D7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5AA01-BE02-4545-B244-80220848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2C2CF-ADB4-41E6-BD62-434726DC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F512-DFE9-4C29-83FF-458D7CC9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4FE44-2C0E-4C77-82C9-3E26BC3D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05B07-930E-4B07-BCAA-1962E752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CA281-A96B-46BD-AD6B-479234A9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F2453-74D0-4986-881D-D8629A7E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28AEE-8B60-4108-992A-5FB1E9A9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30EC6-2270-491F-9BB0-8FFE3162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4687A-9E5B-401D-8F63-32158C19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3F7E7-FF30-473D-BE38-544B8539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527C9-EE7A-499A-A841-81D51074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BE21C-2E3E-48A8-B8D1-4C67624B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8028-D97E-48F2-B9DF-0E525AB6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78EB6-0A23-402B-BE5E-539387CF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A944A-CE2B-4796-9D4C-2FD36C66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79DBA-8F5E-4E46-9C0F-9F875A15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85BE2-DB1A-4F67-98D5-96AE9536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B856B-5154-4FE5-A7D0-D9408C5B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6A30D-C6AD-4166-A442-B066BD6C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C3C63-A500-42D0-8547-08CDA653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8CA4F6-D78E-41A9-9FFD-CB318ECD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3F46A-8C4B-4D87-9297-AC343CE0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5F21D-375B-4050-899E-8804C209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6713-DEBF-47CB-9D43-03062673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3B56E-6878-40DA-A753-198D6996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95CEC-7D40-4BF4-8210-D62D80E6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82189-E069-43B7-B1C5-191BF2EA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6D7AC-58D8-4B56-B847-9028B7DA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61C78-D6A1-484E-9909-482E0153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27057-E61C-410F-956E-60CD730D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89CD6-D5F5-469F-B203-95DDB96D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95B65-D1F8-419B-A0F5-B23A5542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78961-5715-4763-B14D-EF4DF2AD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CFFB5E-5E96-4135-B631-03D67C30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7E19-1F3F-410D-992E-C161F1C2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6353B-4EED-4EA6-99E3-5E7B3EC3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98CD30-CC14-486E-9FBC-F359D607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23ACF-CCE6-44B0-B1C8-FB240676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2E37F-3AF3-44D9-AF70-4E66753C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E4102-3267-4173-BA36-4A8DB897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34BEB-7A01-41D6-9D09-9E4C5397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1C871-249E-491A-BC55-05DEC7F6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E7711-B8D5-465E-B25F-733E84F6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0BF2B-F33F-44C7-805E-0042846D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81266D-6485-4611-A159-B487C65F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D990-0EBC-4EA7-8043-BB98B327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A9E9E3-5B6B-4599-8C18-4581145F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5188B-3421-4153-BE11-D3BF56EA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AD7FC8-42D2-4722-B121-6AC05682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9FD94-01A9-4A5E-ABFB-76B6B0FA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4FDF6F-76D2-4D3D-9683-20ADA0FF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4DD99-423F-4588-9972-29985B54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2B765-5D58-433E-A970-01717381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36B91D-6DA4-4B39-907F-C963070D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391B2-43A8-4CA9-B46C-84401C2B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53FB5-5714-4429-B123-0370FBD4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CCDE-8356-4309-A565-356DCBAF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C945E0-CC58-4A8B-ADCE-F49879F8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82BB1-ADCE-421E-9F79-3BC58759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7B078-52B8-4899-A216-84709A80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3B7C00-C926-424F-AEE0-381D9663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E811E4-AE7C-461C-BA6A-273E27F3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578AC-545A-4AF0-944C-5E23E142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68B735-E516-47F7-B331-66B2C394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607A4-4D47-4C16-9491-DDD1F0D6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4AAA4-3EEF-4C3E-88E1-C0DA5320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FAD8E8-7E62-4178-B6DA-BE21A895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5E3B-BA1B-4C10-9776-FA1C30EE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5E5421-0076-4CD7-85B6-B0B94C38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20018E-0126-4569-8DA7-DF9D27AA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DB2C6C-6DC7-4952-9C09-840186DA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CC8BE6-AB0D-4E86-A6BA-6AA6CC6F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1A23BA-B47E-4D01-B912-DBC6F494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AABBD5-123B-4C7A-9CCE-204A399A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09171F-81B0-45C2-9016-A239BC34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571A63-74C5-4CBF-B92C-416A94B6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9EAC98-BB11-449E-8236-C503C126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B769EF-714E-408F-9F40-5250AA8A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E1F-1AF8-4E11-9525-1B5CDCB6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57A5-D3F7-4CD9-B3DB-3DEB2D19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1A7A28-988F-4B5D-8A62-11E3EE23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F0E86-9466-49C0-ADA0-6BF12FCA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A0EBA-8AF6-43A8-80D5-4CB87DE8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3056DB-7986-467E-9F9C-87BAB87E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DE9E4-7993-43FC-B322-24573375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8AD81E-1F26-4C7C-B28D-70CBF1F6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853BA3-1617-44E9-8C9C-583A6AA9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CB6C9-2A4E-4D4B-BD1F-1E3ED026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979B02-38C1-4558-AB11-91929CC7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3BE119-24D7-4203-838E-6FD4D30D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88AA-1FA6-456A-83B2-945A65EF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A905ED-5105-484A-A783-4B746B79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9A7491-DF5F-4D18-A184-08C95385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552F6A-F847-4359-99F1-E22B0E02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1EA680-A16E-44C5-96C0-3F2AD769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12F2CE-CDB1-4456-A692-8BF9AE14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D3B3A6-AE75-4282-83F9-721F7D01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6ADF9C-3B34-4A89-A201-7FB66998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98CE31-4A34-49EA-AF36-257C0989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7608F9-8EB1-4340-82B1-F50A9F32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BADA3A-8B07-48C0-9F8D-1C5965AA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97D2-DB66-4B30-B558-B3FE10C1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5C99D4-DC17-4C4E-B833-A162DD74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415D01-58B9-4B3C-8617-073C130D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498D17-DC49-4DAA-870A-707F21E8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7F106E-0E8C-48A9-8AAA-9D35F2E2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DD599D-E148-45DD-99F8-C68E2317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3711E7-16FF-4AA4-967E-049200AD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C91666-F217-4E68-9733-F16982F6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A28589-0819-4188-A7F5-EA0A60C7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9281A1-4728-4822-837A-2AB66AA5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103A3D-7EE5-44D9-9A9A-435B639C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9BA5-AEC0-4965-BC87-27EFCE84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43340-5B9D-404B-927F-13B31240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F5F880-8E6D-4350-BA1C-93A7A839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F395D9-313E-449B-A45E-F5D084C1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FE7CAD-234B-499E-BF06-98F517D7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7DD65C-39BE-4843-926E-A43B9A9D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8F1ABB-CA26-4BB6-AE51-6B1B5FDC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FE5192-4C8E-4B37-8B71-443E99D7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915D23-ED8B-4E11-87DA-0BB21C3C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00F992-3420-4C7D-9172-01B8DA60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27A934-61C8-49B1-8A51-B355E8D1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A52B-6D2A-49AA-B926-A6915750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9F7172-664C-411B-A221-2D549404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5C0B2A-41D8-4282-8887-434AEF23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DE7310-2386-4200-AD3F-94A4E974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26AB21-703D-4CDA-9A13-D0BAC703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5C8424-BC84-4AFD-B933-2F6DFD32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442D9E-6B0A-4D04-BD9D-2D378E7E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B97FD2-211A-44FA-ABD7-1ABE2058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DAAD0E-B0A5-49D1-B094-AF89FF64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A9E014-7F70-41F7-A5B8-3EFEC4B4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FF797F-7AFC-48C4-97FE-3E309035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3397B-2BC5-4160-B629-A6FAF458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78C4B2-3F81-40AC-82B0-EE90F84C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8359EC-0985-4058-87F4-AFDB9A41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A33A39-9D42-4C4D-A4AD-4CBEC741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D82CB-0A7A-40D6-9775-4D9550BA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BA2BB-A5C2-45B2-9975-CEF909BD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A7828-87AA-4212-B58E-75A3027A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A18E8-9999-4641-8DCF-B4E99581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1B9-B1B9-484B-9779-5A904CAB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C065C-9ABB-4D34-8427-BD9E9CA0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4C9F6-8B8F-4815-837B-EF383F96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BC4F7-764B-4BD2-9C4C-1E30F022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32C6-551E-4F11-9E6B-C9B7A80B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0218B-067B-4889-B66A-6379C360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7AD1-0BE0-4154-9491-065B3097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12389-2493-425B-9CB5-E38FBC5D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0AC2-724C-4309-801E-334DB433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B1198-34D3-4569-8C7F-1256F50F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EA35C-A5B4-400B-BBE3-AFB04418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3AA-A476-45B3-99CA-9AB7E6EF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8E6B3-FE95-423F-910C-206AFE23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3882A-DB72-4174-8CC1-DC379A92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83A1C-1C60-451B-9F13-3A83D272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E198-44A9-40C9-937C-1074F053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3A530-A8BE-4D9C-852C-B5E89E81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268D-F5EA-478B-91D0-36634174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64849-18C2-4DD8-A6C1-C06F7058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82B2C-6EC4-4D3F-8D05-0FB508D3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2C194-67E3-4FAD-8105-DBA1D3F3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6683A-B7EB-4379-8EAD-D0CB9211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94C-DE2C-42F7-9D5B-B17BFEF5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837E0-4E9C-449C-996B-BFEFE81A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C7C13-EEA5-4F39-964A-A5607D72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C0534-9E70-4E66-B787-5DAA7613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9F7B5-8ADC-41A7-8248-0751C145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B0FB0-37F7-422E-9A17-63287843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C1A87-C682-413C-96D8-1687C94A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619E8-E393-4861-AECB-7C2BAFEF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90727-2DC2-496B-BC14-E4559E31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371DC-6EC8-4785-A1CF-CC8454D0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9413A-2D51-48DF-8750-60372E58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6FD-2501-4857-BF52-AD82AC95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DA311-5185-47A1-978A-67B57E71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7126A-55EA-4C4F-9451-1E85DBBA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D75EE-504D-4DFA-A9B1-137C1A6B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03E68-2088-482D-A667-DE698A8A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B2FC3-7885-44D9-ADBD-22699B12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AD5E8-938A-4080-9B3B-D5B56378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EE5A6-1C24-491D-A84F-E6090DF4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A91A1-AB9F-4FF5-A172-379AF60A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E475E-C293-447B-968A-8D7C96E6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E9DC9-BBCC-4B96-BFFE-DF16F498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9ED-94DC-48D8-AA80-712C0C9B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195E6-6AA2-400B-86FB-AAF7822A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1B15F-7593-4CBD-B4CC-FE1666C8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D463A-4744-448B-AD64-9C769251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9D444-C113-432E-B4C4-66CA20ED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4DADB-DACA-4608-9797-A57817A5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1F4E1-B1E3-4E69-97FA-39F551CB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BA415-9957-4B51-A54E-E76E9BBA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A8A47-CA52-46A4-8026-1AC3AFEA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06CD3-B464-47C7-9ECD-F2DADD9C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B1D5B-BC34-409B-9967-644B00A2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632-6C8D-4A2C-BE0B-2B0966C8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D3D75-66F7-4A78-9CD0-38720F28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52CF9-B990-4FC3-AC1C-7E637369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9288A-7DF8-449E-8E6A-D2D88F5C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093CA-B7CF-474B-9F71-8CA53126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6F886-EBCC-4E9B-B708-FA0557F0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CDBB3-5377-4E10-848C-B54ED257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CDD6A-0B8F-4355-A85C-20DFC7D2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B468B-33C2-4E9B-9DBB-DED7A02A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A3F4E-879E-45A7-BFBF-86861080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4BE07-8941-452F-831C-77147AC5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356-ABB0-4C3A-890D-F06632B7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52934-CC0B-4D0E-B3D5-9881CE42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B964A-9B66-4834-8F25-DB4CDAB6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D767F-CDFD-41B7-A4CD-D7FF9194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BA935-FDE4-4CD2-8010-A49CA295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9F54E-7926-40DD-9877-E7BB526F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39733-EFA8-43B3-9307-8413F93F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19807-5B90-4753-BD72-06A09203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ADCEB-53DE-4F50-BABA-18276928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6DF5F-4D98-446F-9AAA-53AC4621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0C226-47DC-464B-97A4-FC14E37E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EE86-E18A-45A7-830F-FDFDA0FFE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195D-856C-4DCD-A355-F9DA24CF34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47F2-FB71-4908-BFE8-D462E1B3E0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BCEB-5703-4893-91ED-1EDD728466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4229-B9AD-4883-9897-674F600310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A473-05D4-402F-8422-A2E0F4FA65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4CD0-A9D6-4EE7-B56F-AA226B403B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1BBB-9F39-4065-B634-1213E1E4A6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02BB-BD4D-483C-9DB3-246A76163E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FB79-8D92-4FC8-856C-F2367C47B3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6660-1362-49B4-A550-240B599BED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23B7-CA5A-484D-B0B4-05829C67BA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9C51-35FC-4F54-A4EA-14F6593D2A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7682-1309-460C-A234-0FE8A2F453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3520-1612-438D-A9F5-FFF1E053AC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8902-8342-411B-9EDA-CBF77F5914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1A9D-DEE3-4F50-B222-0EED7B5110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9CEB-3427-4D24-8D7C-7F98543667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565A-96E1-4D73-84A3-B4BE623BC2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E66B-F7CD-48B8-9DCF-4E198E5DB8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DEBA-18DB-4D8C-8EFB-6E6F6354AA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F2D9-031C-49B0-BB95-7310D427AC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7313-C7A0-45F7-AC9E-03FD229168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2A07-1C02-4426-9C5A-E9D9ABDE4F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D4B9-D7B4-4C8C-AE4E-68A2436065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0596-7311-44D9-8E9C-4ADB3BAF77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8E60-B1D8-4580-82DD-3C40A00DB6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D571-8C38-4D6B-9D92-4079A196F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1942-9F0B-4346-9880-2C8432FFDF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A4A1-DB71-42AD-BEAB-64965FF3FB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C01B-8919-4C66-B6BA-0EE68C34DF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C8D0-D0CD-4B1E-BA1F-F013657691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4AB1-AFB0-4B47-9217-971F9A6B81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ECC7-E7BD-414D-87B3-F687EB8184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4D60-EDE9-430B-B762-F9F705F3DD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6A60-5153-49CD-BAAD-CE025D053E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41D3-20D6-4213-BACF-63FBB09613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BDDE-3CB0-47C8-8599-27F3EDDFDD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9F27-D920-490C-A91C-3925C73086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4959-4FCC-409F-BB6E-36989544B0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052720" y="3186000"/>
            <a:ext cx="503856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Picture 1" descr=""/>
          <p:cNvPicPr/>
          <p:nvPr/>
        </p:nvPicPr>
        <p:blipFill>
          <a:blip r:embed="rId1"/>
          <a:stretch/>
        </p:blipFill>
        <p:spPr>
          <a:xfrm>
            <a:off x="638280" y="787320"/>
            <a:ext cx="800568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1" descr=""/>
          <p:cNvPicPr/>
          <p:nvPr/>
        </p:nvPicPr>
        <p:blipFill>
          <a:blip r:embed="rId1"/>
          <a:stretch/>
        </p:blipFill>
        <p:spPr>
          <a:xfrm>
            <a:off x="576360" y="1000080"/>
            <a:ext cx="7991280" cy="55720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5" descr=""/>
          <p:cNvPicPr/>
          <p:nvPr/>
        </p:nvPicPr>
        <p:blipFill>
          <a:blip r:embed="rId2"/>
          <a:stretch/>
        </p:blipFill>
        <p:spPr>
          <a:xfrm>
            <a:off x="257040" y="3152880"/>
            <a:ext cx="8523360" cy="392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5" descr=""/>
          <p:cNvPicPr/>
          <p:nvPr/>
        </p:nvPicPr>
        <p:blipFill>
          <a:blip r:embed="rId3"/>
          <a:stretch/>
        </p:blipFill>
        <p:spPr>
          <a:xfrm>
            <a:off x="168120" y="3567240"/>
            <a:ext cx="8523360" cy="3920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5" descr=""/>
          <p:cNvPicPr/>
          <p:nvPr/>
        </p:nvPicPr>
        <p:blipFill>
          <a:blip r:embed="rId4"/>
          <a:stretch/>
        </p:blipFill>
        <p:spPr>
          <a:xfrm>
            <a:off x="295200" y="3989520"/>
            <a:ext cx="8523360" cy="39204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5" descr=""/>
          <p:cNvPicPr/>
          <p:nvPr/>
        </p:nvPicPr>
        <p:blipFill>
          <a:blip r:embed="rId5"/>
          <a:stretch/>
        </p:blipFill>
        <p:spPr>
          <a:xfrm>
            <a:off x="279360" y="4475160"/>
            <a:ext cx="8523360" cy="7444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" descr=""/>
          <p:cNvPicPr/>
          <p:nvPr/>
        </p:nvPicPr>
        <p:blipFill>
          <a:blip r:embed="rId6"/>
          <a:stretch/>
        </p:blipFill>
        <p:spPr>
          <a:xfrm>
            <a:off x="279360" y="5256360"/>
            <a:ext cx="8523360" cy="39204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5" descr=""/>
          <p:cNvPicPr/>
          <p:nvPr/>
        </p:nvPicPr>
        <p:blipFill>
          <a:blip r:embed="rId7"/>
          <a:stretch/>
        </p:blipFill>
        <p:spPr>
          <a:xfrm>
            <a:off x="263520" y="5686560"/>
            <a:ext cx="8521560" cy="3920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5" descr=""/>
          <p:cNvPicPr/>
          <p:nvPr/>
        </p:nvPicPr>
        <p:blipFill>
          <a:blip r:embed="rId8"/>
          <a:stretch/>
        </p:blipFill>
        <p:spPr>
          <a:xfrm>
            <a:off x="246240" y="6108840"/>
            <a:ext cx="8523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2" descr=""/>
          <p:cNvPicPr/>
          <p:nvPr/>
        </p:nvPicPr>
        <p:blipFill>
          <a:blip r:embed="rId1"/>
          <a:stretch/>
        </p:blipFill>
        <p:spPr>
          <a:xfrm>
            <a:off x="338040" y="857160"/>
            <a:ext cx="8467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Picture 1" descr=""/>
          <p:cNvPicPr/>
          <p:nvPr/>
        </p:nvPicPr>
        <p:blipFill>
          <a:blip r:embed="rId1"/>
          <a:stretch/>
        </p:blipFill>
        <p:spPr>
          <a:xfrm>
            <a:off x="566640" y="985680"/>
            <a:ext cx="8010720" cy="55152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5" descr=""/>
          <p:cNvPicPr/>
          <p:nvPr/>
        </p:nvPicPr>
        <p:blipFill>
          <a:blip r:embed="rId2"/>
          <a:stretch/>
        </p:blipFill>
        <p:spPr>
          <a:xfrm>
            <a:off x="142920" y="1389240"/>
            <a:ext cx="5275080" cy="3920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5" descr=""/>
          <p:cNvPicPr/>
          <p:nvPr/>
        </p:nvPicPr>
        <p:blipFill>
          <a:blip r:embed="rId3"/>
          <a:stretch/>
        </p:blipFill>
        <p:spPr>
          <a:xfrm>
            <a:off x="127080" y="1874880"/>
            <a:ext cx="5275080" cy="3920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5" descr=""/>
          <p:cNvPicPr/>
          <p:nvPr/>
        </p:nvPicPr>
        <p:blipFill>
          <a:blip r:embed="rId4"/>
          <a:stretch/>
        </p:blipFill>
        <p:spPr>
          <a:xfrm>
            <a:off x="111240" y="2281320"/>
            <a:ext cx="5273640" cy="3920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5" descr=""/>
          <p:cNvPicPr/>
          <p:nvPr/>
        </p:nvPicPr>
        <p:blipFill>
          <a:blip r:embed="rId5"/>
          <a:stretch/>
        </p:blipFill>
        <p:spPr>
          <a:xfrm>
            <a:off x="93600" y="2695680"/>
            <a:ext cx="5275440" cy="39204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5" descr=""/>
          <p:cNvPicPr/>
          <p:nvPr/>
        </p:nvPicPr>
        <p:blipFill>
          <a:blip r:embed="rId6"/>
          <a:stretch/>
        </p:blipFill>
        <p:spPr>
          <a:xfrm>
            <a:off x="220680" y="3125880"/>
            <a:ext cx="5275080" cy="8460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5" descr=""/>
          <p:cNvPicPr/>
          <p:nvPr/>
        </p:nvPicPr>
        <p:blipFill>
          <a:blip r:embed="rId7"/>
          <a:stretch/>
        </p:blipFill>
        <p:spPr>
          <a:xfrm>
            <a:off x="347760" y="3970440"/>
            <a:ext cx="5275080" cy="84600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5" descr=""/>
          <p:cNvPicPr/>
          <p:nvPr/>
        </p:nvPicPr>
        <p:blipFill>
          <a:blip r:embed="rId8"/>
          <a:stretch/>
        </p:blipFill>
        <p:spPr>
          <a:xfrm>
            <a:off x="387360" y="4819680"/>
            <a:ext cx="8248680" cy="3920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5" descr=""/>
          <p:cNvPicPr/>
          <p:nvPr/>
        </p:nvPicPr>
        <p:blipFill>
          <a:blip r:embed="rId9"/>
          <a:stretch/>
        </p:blipFill>
        <p:spPr>
          <a:xfrm>
            <a:off x="371520" y="5232240"/>
            <a:ext cx="8248680" cy="3938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5" descr=""/>
          <p:cNvPicPr/>
          <p:nvPr/>
        </p:nvPicPr>
        <p:blipFill>
          <a:blip r:embed="rId10"/>
          <a:stretch/>
        </p:blipFill>
        <p:spPr>
          <a:xfrm>
            <a:off x="282600" y="5646600"/>
            <a:ext cx="8248680" cy="39240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5" descr=""/>
          <p:cNvPicPr/>
          <p:nvPr/>
        </p:nvPicPr>
        <p:blipFill>
          <a:blip r:embed="rId11"/>
          <a:stretch/>
        </p:blipFill>
        <p:spPr>
          <a:xfrm>
            <a:off x="266760" y="6060960"/>
            <a:ext cx="824868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Picture 1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867440" cy="434340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5" descr=""/>
          <p:cNvPicPr/>
          <p:nvPr/>
        </p:nvPicPr>
        <p:blipFill>
          <a:blip r:embed="rId2"/>
          <a:stretch/>
        </p:blipFill>
        <p:spPr>
          <a:xfrm>
            <a:off x="642960" y="928800"/>
            <a:ext cx="8248680" cy="3920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5" descr=""/>
          <p:cNvPicPr/>
          <p:nvPr/>
        </p:nvPicPr>
        <p:blipFill>
          <a:blip r:embed="rId3"/>
          <a:stretch/>
        </p:blipFill>
        <p:spPr>
          <a:xfrm>
            <a:off x="698400" y="1359000"/>
            <a:ext cx="8248680" cy="39348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5" descr=""/>
          <p:cNvPicPr/>
          <p:nvPr/>
        </p:nvPicPr>
        <p:blipFill>
          <a:blip r:embed="rId4"/>
          <a:stretch/>
        </p:blipFill>
        <p:spPr>
          <a:xfrm>
            <a:off x="538200" y="1790640"/>
            <a:ext cx="8248680" cy="39204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5" descr=""/>
          <p:cNvPicPr/>
          <p:nvPr/>
        </p:nvPicPr>
        <p:blipFill>
          <a:blip r:embed="rId5"/>
          <a:stretch/>
        </p:blipFill>
        <p:spPr>
          <a:xfrm>
            <a:off x="593640" y="2220840"/>
            <a:ext cx="8248680" cy="39204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5" descr=""/>
          <p:cNvPicPr/>
          <p:nvPr/>
        </p:nvPicPr>
        <p:blipFill>
          <a:blip r:embed="rId6"/>
          <a:stretch/>
        </p:blipFill>
        <p:spPr>
          <a:xfrm>
            <a:off x="520560" y="2635200"/>
            <a:ext cx="8248680" cy="39204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5" descr=""/>
          <p:cNvPicPr/>
          <p:nvPr/>
        </p:nvPicPr>
        <p:blipFill>
          <a:blip r:embed="rId7"/>
          <a:stretch/>
        </p:blipFill>
        <p:spPr>
          <a:xfrm>
            <a:off x="576360" y="3065400"/>
            <a:ext cx="8248680" cy="39204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5" descr=""/>
          <p:cNvPicPr/>
          <p:nvPr/>
        </p:nvPicPr>
        <p:blipFill>
          <a:blip r:embed="rId8"/>
          <a:stretch/>
        </p:blipFill>
        <p:spPr>
          <a:xfrm>
            <a:off x="504720" y="3479760"/>
            <a:ext cx="8248680" cy="3985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5" descr=""/>
          <p:cNvPicPr/>
          <p:nvPr/>
        </p:nvPicPr>
        <p:blipFill>
          <a:blip r:embed="rId9"/>
          <a:stretch/>
        </p:blipFill>
        <p:spPr>
          <a:xfrm>
            <a:off x="560520" y="3933720"/>
            <a:ext cx="8248680" cy="3938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5" descr=""/>
          <p:cNvPicPr/>
          <p:nvPr/>
        </p:nvPicPr>
        <p:blipFill>
          <a:blip r:embed="rId10"/>
          <a:stretch/>
        </p:blipFill>
        <p:spPr>
          <a:xfrm>
            <a:off x="552600" y="4395960"/>
            <a:ext cx="8248680" cy="3920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5" descr=""/>
          <p:cNvPicPr/>
          <p:nvPr/>
        </p:nvPicPr>
        <p:blipFill>
          <a:blip r:embed="rId11"/>
          <a:stretch/>
        </p:blipFill>
        <p:spPr>
          <a:xfrm>
            <a:off x="606600" y="4826160"/>
            <a:ext cx="82483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42920" y="1000080"/>
            <a:ext cx="4248000" cy="39718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4724280" y="1000080"/>
            <a:ext cx="4133880" cy="53625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"/>
          <p:cNvPicPr/>
          <p:nvPr/>
        </p:nvPicPr>
        <p:blipFill>
          <a:blip r:embed="rId3"/>
          <a:stretch/>
        </p:blipFill>
        <p:spPr>
          <a:xfrm>
            <a:off x="642960" y="2670120"/>
            <a:ext cx="1357200" cy="3063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4"/>
          <a:stretch/>
        </p:blipFill>
        <p:spPr>
          <a:xfrm>
            <a:off x="2643120" y="2670120"/>
            <a:ext cx="785880" cy="3063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5"/>
          <a:stretch/>
        </p:blipFill>
        <p:spPr>
          <a:xfrm>
            <a:off x="1071720" y="3067200"/>
            <a:ext cx="1000080" cy="3078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6"/>
          <a:stretch/>
        </p:blipFill>
        <p:spPr>
          <a:xfrm>
            <a:off x="2928960" y="3062160"/>
            <a:ext cx="785880" cy="3081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5" descr=""/>
          <p:cNvPicPr/>
          <p:nvPr/>
        </p:nvPicPr>
        <p:blipFill>
          <a:blip r:embed="rId7"/>
          <a:stretch/>
        </p:blipFill>
        <p:spPr>
          <a:xfrm>
            <a:off x="1143000" y="3835440"/>
            <a:ext cx="1214280" cy="3078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5" descr=""/>
          <p:cNvPicPr/>
          <p:nvPr/>
        </p:nvPicPr>
        <p:blipFill>
          <a:blip r:embed="rId8"/>
          <a:stretch/>
        </p:blipFill>
        <p:spPr>
          <a:xfrm>
            <a:off x="2428920" y="4229280"/>
            <a:ext cx="121428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4228920" cy="31244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2"/>
          <a:stretch/>
        </p:blipFill>
        <p:spPr>
          <a:xfrm>
            <a:off x="4829040" y="933480"/>
            <a:ext cx="4172040" cy="37814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"/>
          <p:cNvPicPr/>
          <p:nvPr/>
        </p:nvPicPr>
        <p:blipFill>
          <a:blip r:embed="rId3"/>
          <a:stretch/>
        </p:blipFill>
        <p:spPr>
          <a:xfrm>
            <a:off x="1714680" y="857160"/>
            <a:ext cx="2928600" cy="3081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"/>
          <p:cNvPicPr/>
          <p:nvPr/>
        </p:nvPicPr>
        <p:blipFill>
          <a:blip r:embed="rId4"/>
          <a:stretch/>
        </p:blipFill>
        <p:spPr>
          <a:xfrm>
            <a:off x="0" y="1241280"/>
            <a:ext cx="4500720" cy="3063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5"/>
          <a:stretch/>
        </p:blipFill>
        <p:spPr>
          <a:xfrm>
            <a:off x="71280" y="1620720"/>
            <a:ext cx="4500720" cy="308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"/>
          <p:cNvPicPr/>
          <p:nvPr/>
        </p:nvPicPr>
        <p:blipFill>
          <a:blip r:embed="rId6"/>
          <a:stretch/>
        </p:blipFill>
        <p:spPr>
          <a:xfrm>
            <a:off x="71280" y="2049480"/>
            <a:ext cx="4500720" cy="3078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" descr=""/>
          <p:cNvPicPr/>
          <p:nvPr/>
        </p:nvPicPr>
        <p:blipFill>
          <a:blip r:embed="rId7"/>
          <a:stretch/>
        </p:blipFill>
        <p:spPr>
          <a:xfrm>
            <a:off x="71280" y="2433600"/>
            <a:ext cx="4500720" cy="3081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8"/>
          <a:stretch/>
        </p:blipFill>
        <p:spPr>
          <a:xfrm>
            <a:off x="71280" y="2835360"/>
            <a:ext cx="4500720" cy="307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"/>
          <p:cNvPicPr/>
          <p:nvPr/>
        </p:nvPicPr>
        <p:blipFill>
          <a:blip r:embed="rId9"/>
          <a:stretch/>
        </p:blipFill>
        <p:spPr>
          <a:xfrm>
            <a:off x="142920" y="3192480"/>
            <a:ext cx="4500360" cy="3078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5" descr=""/>
          <p:cNvPicPr/>
          <p:nvPr/>
        </p:nvPicPr>
        <p:blipFill>
          <a:blip r:embed="rId10"/>
          <a:stretch/>
        </p:blipFill>
        <p:spPr>
          <a:xfrm>
            <a:off x="142920" y="3559320"/>
            <a:ext cx="4500360" cy="3078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5" descr=""/>
          <p:cNvPicPr/>
          <p:nvPr/>
        </p:nvPicPr>
        <p:blipFill>
          <a:blip r:embed="rId11"/>
          <a:stretch/>
        </p:blipFill>
        <p:spPr>
          <a:xfrm>
            <a:off x="6215040" y="4419720"/>
            <a:ext cx="20718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3" descr=""/>
          <p:cNvPicPr/>
          <p:nvPr/>
        </p:nvPicPr>
        <p:blipFill>
          <a:blip r:embed="rId1"/>
          <a:stretch/>
        </p:blipFill>
        <p:spPr>
          <a:xfrm>
            <a:off x="471600" y="971640"/>
            <a:ext cx="8200800" cy="56005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5" descr=""/>
          <p:cNvPicPr/>
          <p:nvPr/>
        </p:nvPicPr>
        <p:blipFill>
          <a:blip r:embed="rId2"/>
          <a:stretch/>
        </p:blipFill>
        <p:spPr>
          <a:xfrm>
            <a:off x="8001000" y="2928960"/>
            <a:ext cx="428760" cy="307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5" descr=""/>
          <p:cNvPicPr/>
          <p:nvPr/>
        </p:nvPicPr>
        <p:blipFill>
          <a:blip r:embed="rId3"/>
          <a:stretch/>
        </p:blipFill>
        <p:spPr>
          <a:xfrm>
            <a:off x="8001000" y="3933720"/>
            <a:ext cx="428760" cy="3081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5" descr=""/>
          <p:cNvPicPr/>
          <p:nvPr/>
        </p:nvPicPr>
        <p:blipFill>
          <a:blip r:embed="rId4"/>
          <a:stretch/>
        </p:blipFill>
        <p:spPr>
          <a:xfrm>
            <a:off x="8001000" y="5934240"/>
            <a:ext cx="42876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447840" y="1166760"/>
            <a:ext cx="8248320" cy="5048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5" descr=""/>
          <p:cNvPicPr/>
          <p:nvPr/>
        </p:nvPicPr>
        <p:blipFill>
          <a:blip r:embed="rId2"/>
          <a:stretch/>
        </p:blipFill>
        <p:spPr>
          <a:xfrm>
            <a:off x="8072280" y="1857240"/>
            <a:ext cx="428760" cy="3081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5" descr=""/>
          <p:cNvPicPr/>
          <p:nvPr/>
        </p:nvPicPr>
        <p:blipFill>
          <a:blip r:embed="rId3"/>
          <a:stretch/>
        </p:blipFill>
        <p:spPr>
          <a:xfrm>
            <a:off x="1000080" y="3500280"/>
            <a:ext cx="714600" cy="3081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5" descr=""/>
          <p:cNvPicPr/>
          <p:nvPr/>
        </p:nvPicPr>
        <p:blipFill>
          <a:blip r:embed="rId4"/>
          <a:stretch/>
        </p:blipFill>
        <p:spPr>
          <a:xfrm>
            <a:off x="2214720" y="4840200"/>
            <a:ext cx="714240" cy="3081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5" descr=""/>
          <p:cNvPicPr/>
          <p:nvPr/>
        </p:nvPicPr>
        <p:blipFill>
          <a:blip r:embed="rId5"/>
          <a:stretch/>
        </p:blipFill>
        <p:spPr>
          <a:xfrm>
            <a:off x="6072120" y="5495760"/>
            <a:ext cx="714600" cy="3081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6"/>
          <a:stretch/>
        </p:blipFill>
        <p:spPr>
          <a:xfrm>
            <a:off x="1776240" y="5845320"/>
            <a:ext cx="7146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466560" y="804960"/>
            <a:ext cx="8210880" cy="5981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2"/>
          <a:stretch/>
        </p:blipFill>
        <p:spPr>
          <a:xfrm>
            <a:off x="642960" y="3795840"/>
            <a:ext cx="8215200" cy="3063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5" descr=""/>
          <p:cNvPicPr/>
          <p:nvPr/>
        </p:nvPicPr>
        <p:blipFill>
          <a:blip r:embed="rId3"/>
          <a:stretch/>
        </p:blipFill>
        <p:spPr>
          <a:xfrm>
            <a:off x="642960" y="4143240"/>
            <a:ext cx="8215200" cy="3081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" descr=""/>
          <p:cNvPicPr/>
          <p:nvPr/>
        </p:nvPicPr>
        <p:blipFill>
          <a:blip r:embed="rId4"/>
          <a:stretch/>
        </p:blipFill>
        <p:spPr>
          <a:xfrm>
            <a:off x="571680" y="4429080"/>
            <a:ext cx="8215200" cy="3081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5" descr=""/>
          <p:cNvPicPr/>
          <p:nvPr/>
        </p:nvPicPr>
        <p:blipFill>
          <a:blip r:embed="rId5"/>
          <a:stretch/>
        </p:blipFill>
        <p:spPr>
          <a:xfrm>
            <a:off x="571680" y="4776840"/>
            <a:ext cx="8215200" cy="3078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" descr=""/>
          <p:cNvPicPr/>
          <p:nvPr/>
        </p:nvPicPr>
        <p:blipFill>
          <a:blip r:embed="rId6"/>
          <a:stretch/>
        </p:blipFill>
        <p:spPr>
          <a:xfrm>
            <a:off x="571680" y="5148360"/>
            <a:ext cx="8215200" cy="3078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"/>
          <p:cNvPicPr/>
          <p:nvPr/>
        </p:nvPicPr>
        <p:blipFill>
          <a:blip r:embed="rId7"/>
          <a:stretch/>
        </p:blipFill>
        <p:spPr>
          <a:xfrm>
            <a:off x="571680" y="5495760"/>
            <a:ext cx="8215200" cy="3081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"/>
          <p:cNvPicPr/>
          <p:nvPr/>
        </p:nvPicPr>
        <p:blipFill>
          <a:blip r:embed="rId8"/>
          <a:stretch/>
        </p:blipFill>
        <p:spPr>
          <a:xfrm>
            <a:off x="642960" y="5776920"/>
            <a:ext cx="8215200" cy="3078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9"/>
          <a:stretch/>
        </p:blipFill>
        <p:spPr>
          <a:xfrm>
            <a:off x="642960" y="6148440"/>
            <a:ext cx="8215200" cy="3078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5" descr=""/>
          <p:cNvPicPr/>
          <p:nvPr/>
        </p:nvPicPr>
        <p:blipFill>
          <a:blip r:embed="rId10"/>
          <a:stretch/>
        </p:blipFill>
        <p:spPr>
          <a:xfrm>
            <a:off x="642960" y="6496200"/>
            <a:ext cx="82152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1" descr=""/>
          <p:cNvPicPr/>
          <p:nvPr/>
        </p:nvPicPr>
        <p:blipFill>
          <a:blip r:embed="rId1"/>
          <a:stretch/>
        </p:blipFill>
        <p:spPr>
          <a:xfrm>
            <a:off x="314280" y="857160"/>
            <a:ext cx="8515440" cy="5819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"/>
          <p:cNvPicPr/>
          <p:nvPr/>
        </p:nvPicPr>
        <p:blipFill>
          <a:blip r:embed="rId2"/>
          <a:stretch/>
        </p:blipFill>
        <p:spPr>
          <a:xfrm>
            <a:off x="7935840" y="4538520"/>
            <a:ext cx="58284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1" descr=""/>
          <p:cNvPicPr/>
          <p:nvPr/>
        </p:nvPicPr>
        <p:blipFill>
          <a:blip r:embed="rId1"/>
          <a:stretch/>
        </p:blipFill>
        <p:spPr>
          <a:xfrm>
            <a:off x="271440" y="776160"/>
            <a:ext cx="8601120" cy="60105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5" descr=""/>
          <p:cNvPicPr/>
          <p:nvPr/>
        </p:nvPicPr>
        <p:blipFill>
          <a:blip r:embed="rId2"/>
          <a:stretch/>
        </p:blipFill>
        <p:spPr>
          <a:xfrm>
            <a:off x="1160640" y="1244520"/>
            <a:ext cx="91728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1" descr=""/>
          <p:cNvPicPr/>
          <p:nvPr/>
        </p:nvPicPr>
        <p:blipFill>
          <a:blip r:embed="rId1"/>
          <a:stretch/>
        </p:blipFill>
        <p:spPr>
          <a:xfrm>
            <a:off x="609480" y="785880"/>
            <a:ext cx="7925040" cy="60008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5" descr=""/>
          <p:cNvPicPr/>
          <p:nvPr/>
        </p:nvPicPr>
        <p:blipFill>
          <a:blip r:embed="rId2"/>
          <a:stretch/>
        </p:blipFill>
        <p:spPr>
          <a:xfrm>
            <a:off x="270000" y="785880"/>
            <a:ext cx="8521560" cy="3920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5" descr=""/>
          <p:cNvPicPr/>
          <p:nvPr/>
        </p:nvPicPr>
        <p:blipFill>
          <a:blip r:embed="rId3"/>
          <a:stretch/>
        </p:blipFill>
        <p:spPr>
          <a:xfrm>
            <a:off x="252360" y="1216080"/>
            <a:ext cx="8523360" cy="3934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5" descr=""/>
          <p:cNvPicPr/>
          <p:nvPr/>
        </p:nvPicPr>
        <p:blipFill>
          <a:blip r:embed="rId4"/>
          <a:stretch/>
        </p:blipFill>
        <p:spPr>
          <a:xfrm>
            <a:off x="236520" y="1693800"/>
            <a:ext cx="8523360" cy="7952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5" descr=""/>
          <p:cNvPicPr/>
          <p:nvPr/>
        </p:nvPicPr>
        <p:blipFill>
          <a:blip r:embed="rId5"/>
          <a:stretch/>
        </p:blipFill>
        <p:spPr>
          <a:xfrm>
            <a:off x="165240" y="2508120"/>
            <a:ext cx="8521560" cy="3924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5" descr=""/>
          <p:cNvPicPr/>
          <p:nvPr/>
        </p:nvPicPr>
        <p:blipFill>
          <a:blip r:embed="rId6"/>
          <a:stretch/>
        </p:blipFill>
        <p:spPr>
          <a:xfrm>
            <a:off x="147600" y="2922480"/>
            <a:ext cx="8523360" cy="3924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5" descr=""/>
          <p:cNvPicPr/>
          <p:nvPr/>
        </p:nvPicPr>
        <p:blipFill>
          <a:blip r:embed="rId7"/>
          <a:stretch/>
        </p:blipFill>
        <p:spPr>
          <a:xfrm>
            <a:off x="274680" y="3336840"/>
            <a:ext cx="8523360" cy="3920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5" descr=""/>
          <p:cNvPicPr/>
          <p:nvPr/>
        </p:nvPicPr>
        <p:blipFill>
          <a:blip r:embed="rId8"/>
          <a:stretch/>
        </p:blipFill>
        <p:spPr>
          <a:xfrm>
            <a:off x="258840" y="3767040"/>
            <a:ext cx="8523360" cy="3920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5" descr=""/>
          <p:cNvPicPr/>
          <p:nvPr/>
        </p:nvPicPr>
        <p:blipFill>
          <a:blip r:embed="rId9"/>
          <a:stretch/>
        </p:blipFill>
        <p:spPr>
          <a:xfrm>
            <a:off x="241200" y="4181400"/>
            <a:ext cx="8523360" cy="3920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5" descr=""/>
          <p:cNvPicPr/>
          <p:nvPr/>
        </p:nvPicPr>
        <p:blipFill>
          <a:blip r:embed="rId10"/>
          <a:stretch/>
        </p:blipFill>
        <p:spPr>
          <a:xfrm>
            <a:off x="225360" y="4667400"/>
            <a:ext cx="8523360" cy="39204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5" descr=""/>
          <p:cNvPicPr/>
          <p:nvPr/>
        </p:nvPicPr>
        <p:blipFill>
          <a:blip r:embed="rId11"/>
          <a:stretch/>
        </p:blipFill>
        <p:spPr>
          <a:xfrm>
            <a:off x="336600" y="5079960"/>
            <a:ext cx="8521560" cy="3938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5" descr=""/>
          <p:cNvPicPr/>
          <p:nvPr/>
        </p:nvPicPr>
        <p:blipFill>
          <a:blip r:embed="rId12"/>
          <a:stretch/>
        </p:blipFill>
        <p:spPr>
          <a:xfrm>
            <a:off x="318960" y="5494320"/>
            <a:ext cx="8523360" cy="3920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5" descr=""/>
          <p:cNvPicPr/>
          <p:nvPr/>
        </p:nvPicPr>
        <p:blipFill>
          <a:blip r:embed="rId13"/>
          <a:stretch/>
        </p:blipFill>
        <p:spPr>
          <a:xfrm>
            <a:off x="303120" y="5916600"/>
            <a:ext cx="8523360" cy="3920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5" descr=""/>
          <p:cNvPicPr/>
          <p:nvPr/>
        </p:nvPicPr>
        <p:blipFill>
          <a:blip r:embed="rId14"/>
          <a:stretch/>
        </p:blipFill>
        <p:spPr>
          <a:xfrm>
            <a:off x="285840" y="6323040"/>
            <a:ext cx="85233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2:42:06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